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1D1-9F89-4937-B0BA-C768AD2F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DCB-0546-4EEC-A266-0D40CB27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405-2813-4596-BD31-6E467347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C91-0150-4728-BC5A-595BFCE6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2F7-D128-419B-B485-76EEEDD7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DC2-ACEA-435D-A2D3-216099C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00F-C1B3-4ECB-93D4-070BF476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D4A-C406-46BC-AFDA-541CD75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6C2-DD80-4490-94AA-57423823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3FE-BAB7-46F4-8A11-ABCD64C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B33-3B2E-47D0-B1B1-BA4E3BEC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1CD-B810-4158-A6B3-F50DB3CB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439-F3A0-4BF1-B4C9-72F1948A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2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1295280" cy="1244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-7632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62520" y="5638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5796000"/>
            <a:ext cx="1295280" cy="10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778880" y="1371600"/>
            <a:ext cx="1365120" cy="137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620120" y="5767560"/>
            <a:ext cx="1523880" cy="109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295280" cy="14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600200" y="5904000"/>
            <a:ext cx="1447920" cy="96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759120" y="0"/>
            <a:ext cx="1498680" cy="1450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943600" y="5808600"/>
            <a:ext cx="1498680" cy="1049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676520" y="0"/>
            <a:ext cx="1726920" cy="103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>
            <a:off x="7848720" y="2743200"/>
            <a:ext cx="1295280" cy="1244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flipH="1">
            <a:off x="0" y="1371600"/>
            <a:ext cx="1371600" cy="137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flipH="1">
            <a:off x="0" y="4268880"/>
            <a:ext cx="1371600" cy="13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7778880" y="4267080"/>
            <a:ext cx="1365120" cy="1370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Me llamo ________ </a:t>
            </a: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Clase 8 IM</a:t>
            </a:r>
            <a:br>
              <a:rPr sz="3100"/>
            </a:b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La fecha es el 27 de enero del 201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ropósito # 29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¿Por que es importante estudiar la histo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hort reflection on what you have seen, so far, in the movi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Time of the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Tarea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# 2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the questionnaire on the movie, make sure that you answer the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4:28:50Z</dcterms:created>
  <dc:creator>Helen Zumaeta</dc:creator>
  <dc:description/>
  <dc:language>en-US</dc:language>
  <cp:lastModifiedBy>Helen Zumaeta</cp:lastModifiedBy>
  <dcterms:modified xsi:type="dcterms:W3CDTF">2012-01-27T14:29:25Z</dcterms:modified>
  <cp:revision>2</cp:revision>
  <dc:subject/>
  <dc:title>Me llamo ________  Clase 8 IM La fecha es el 27 de enero del 2012</dc:title>
</cp:coreProperties>
</file>